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6E5-3201-41DA-912A-7B074196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6FE-A962-460D-A741-EC1E675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60D17-4AB2-4E19-9789-D9DA13EF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3E6D9-D9F6-48B8-B24B-6632FA7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CFEAA-7DE7-4ACC-AA38-DEF58CDB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AA817-34A8-4A1E-9F3B-CC32C1B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69A0C-0BA3-4DDC-92B7-BD1C937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61681-6629-42DE-869B-59FA03E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01D81-95AC-4F85-A1BF-42599BA9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3B94A-C252-4B79-A399-3D1F3A8E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C02FB-6F26-4640-8500-A5FF462A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EB7A3-B9A4-403E-B600-0671FEE4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09A-ED23-4A7F-AE24-F7428253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78832-D20B-4159-8BFA-DA2FF1E6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02D24-CB47-4878-BFCE-53187C86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1A6D1-FF77-4220-9673-FE1A4432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9C636-6898-4DF7-AE5E-60DE5BA6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02BDA-4907-48FF-8776-DCBE7643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DF603-CF4D-487E-B464-71C3F7D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AA1B4-BFC4-46FC-A59A-F4BB9B5A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2ED18-141D-488C-B331-FBE6A99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D9B30-D271-4FB4-9751-92F04114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9D852-E5CC-4866-96AD-ABE42BD8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295-5897-4ED5-81AB-8EB269FA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28971-DABD-48C3-900B-BF8CEA27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29E7-FFC0-4603-A06E-0C33F6D0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DA12F-69EE-42DB-A0F1-060EA00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4AC73-E2A7-480E-843A-6E8D76B7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5E29C-245E-43DF-B406-DACC0C18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1D14F-A71B-4149-8766-AE9DF54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4A19C-577A-4F77-B127-D09DFF2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B7B36-4ED8-45D2-BC99-433EA44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A33FD-7A85-4BF8-A0E2-5FF3927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C5063-7A5E-4855-A9DB-3F62A10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8564-6F97-4C03-B918-490CBFFB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7213F-03B5-4E50-8D4F-F7F35328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C30A6-79E6-4330-A95C-537D038A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CBA1-A246-4B46-8F75-2D6D51FF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EE406-13F0-4317-ABD4-2F1D7DFC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0D33E-17A8-4157-8CBD-8B061B98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249D4-D7E4-4C12-A208-D8E42AB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E2A08-3252-4199-A2A6-79E9551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55B41-DE75-446E-9A6B-9DF6A58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CC31D-5744-4C02-8E3E-68F43CE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DAA85-03B5-4174-812D-DE2FA1E8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6770-0222-4093-9482-877DCC8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959F9-758D-4434-90CD-096CD97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ED5CD-31EC-4A57-8566-2BE0178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B1086-4351-4C51-995A-1F0D8417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9CBC9-6FEB-4621-8074-40E33C4D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E1F35-2E17-449A-A84E-193D1EB6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6AB-7DD6-4ECA-882C-23BFDA5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2857-863F-47B5-B55E-DDAF4EC1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84FF-27EF-4EB4-B316-30E2A72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4676-0734-4794-BFAF-7ECDE99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147E-3B0C-4F41-81E2-C10C86C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BDA-20EE-48CA-A8DA-351A1A2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A04-94F4-4737-A877-56F44E0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D0E-CE02-4F60-8BD3-531E62D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6095-5352-47A8-A350-6730F8B0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B291-78BD-421C-84EC-8E99CB64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93A-FE8C-4734-87BD-AB9FA6D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2DB9-0A51-4CBB-80F2-97E3CB7A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8A4C-9622-4D33-B46D-5BE192E0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0473-F705-4B54-9758-52434EC4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B955-DAEA-46B0-BE0A-598A63E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F5CA-03B5-4036-80D5-5B4DC0DF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EC8-400A-493D-9D8E-F4A55F2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7F76-BE28-43FD-9CD3-E83C1A3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F66A-2148-436D-8965-906DED3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BED4-0636-482D-A60E-8E70225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05E6-B74F-45BE-ADBA-8367E96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1FD8-1B2C-4B9F-8BDB-2C1168CD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0288-7050-4C21-945B-09D67EBD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B2B4-C449-40BC-8B70-738208B7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4D69-A100-42A6-B2AC-8EF05954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E22A-476E-45F7-9BE3-75B95C51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8850-7C96-452E-A220-4CDFDF52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04A-CEE1-4274-87EF-C13FFD7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3BEF-F33A-4962-A53F-9B40B747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EADA-8B90-43B8-994C-4FF3AF2E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5AC0-9EF0-45D6-B664-04A4DE6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9B73-E581-457D-96A5-D8D6B1A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EBE0-AF39-4715-9AB7-53168CD7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D847-FF21-4947-A71F-A214CC2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6C2C-EF67-408A-AF84-E00E37D2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DC84-40AD-46FE-8F92-57CF769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7113-5EEC-40B5-A378-8F60FF59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B052-9BA5-49F1-9349-78A37C3C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8B1-3A65-49CB-832F-40E3A89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5CA9-72C8-48B1-9578-958855F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E2CA-E185-41D3-AB17-D41BDD8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52F38-A62E-4C40-AD5A-7CBD49A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D070-ADB3-4BFB-948E-B926C85C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7B90-06A1-46D7-A7E5-DC0F7108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74D6-FF35-4641-BEC2-24996B0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4FA4-041C-486F-BF2E-C67EE1A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F50EC-CF1B-4402-A147-BF7BDB9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1EF1-CCB9-4E4D-AA92-8C6B6F7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22B2-5325-4F6B-A347-31376CB5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DE8-29ED-42EE-8278-F4F52CB0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92652-E016-4178-99EF-93AF9702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43A48-4A2F-4B85-9642-6394709D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1F0B-2480-43EA-AFE3-E1FDCD3E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1DDC-FFBD-4917-84B2-6E13CA0F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7C86-5324-49D3-BB0D-F12ED0E8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6014-FE89-427E-9622-AA8C9B7D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22D5-3286-4CDF-A290-45548D82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76520-4F16-4969-B6E0-01C6179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F6B1B-EC0D-4D6B-8DC5-09216B67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D3F6-04D6-488C-892D-A6EC526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85D-68BC-41DD-82E8-EE953B6E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45793-65E2-4081-843D-0ED1C90A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09C99-FE12-4B97-BF82-9887D64F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3D28-6766-40A7-B805-9686F87E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A6B43-44C9-4BC8-8899-6DDFA475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7B96-CEC7-4815-8CF8-C450C5D4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CBC1-4927-4929-851F-7E85BE09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E4B2-7DCC-4FA1-A8E0-CBB9573F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26DB-5964-4A28-975D-6D2F6DD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16E70-A27A-4B1E-96CA-26CFBC8A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561E-3792-430B-8D21-FAD797F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423-03D8-42A1-888B-E23970F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B394D-DBC0-40A1-9990-A6A02CB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397C-0026-49DE-8310-2DC3C85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7A48-8E76-4085-B28D-8EC259F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4DB5-10E9-4047-A7A0-84BC03A6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1036-C13C-4B35-B92C-A8F73A16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8E437-0E3D-491D-9F7D-E4747D8C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40C7-EF5E-476D-B011-E66E85A4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8029-949B-4671-BF9F-24DAE244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CB99-3DCF-47A8-A949-98DB5CD7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0295-D4A1-4ADB-A3F8-B9A470E4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F85-9BCF-439B-BE49-BF42C38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8AEA-CB23-475B-9700-7792EF8C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8033D-DEDA-4EAF-B579-3E43F1C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C37F-77BD-41AC-B909-A6A6E7A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3E877-CF04-4618-84DE-9641DEB4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D23A-2D0C-47F1-9F56-56134B5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2C1D-3EC2-4A2D-9EFA-45DDD7E3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C52F-0FF2-421D-A825-B8D7BAAA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98389-6E15-4F2C-A3D8-E6D0D3C1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74307-B51D-4164-BFB5-B301CA3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2736E-8BEC-41A1-8A30-DE407E08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C48F-4AA3-40B1-9788-11AC6F21B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2A56-0D9B-454C-813E-6965AE078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312E-20F1-4183-9435-0DA72FFA0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99E0-93A7-40C1-8D62-C5969AE06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FB5-69A9-43FB-B580-78EDDBFA4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0473-1D04-451E-8BD2-03DDA4E01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2E0-09FC-4816-B284-88587A5FC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C8E-E649-462F-B58C-430D44535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D348-519D-4BF7-A844-D8516BE05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6CB-7914-42B6-8275-9F6E5F845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9EA4-52D4-4165-B09F-CAECB3C2F8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4A92-6FB0-44C0-A713-7EC49F0DD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ESENTATION TO TH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DCO LIBRARY COMMITTE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INDSEY RIND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IRECTOR OF ENGLISH, ELL, AND REA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ELMONT PUBLIC SCHOOL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NUARY 13, 201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CSS and Information Literac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formation Literacy Standa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Common Core embeds so-called 2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century standards and information literacy into the ELA stand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f the ELA strands, collaboration between the library and classroom teachers can be most helpful for the Reading for Informational Text and the Writing stran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s students grow older and standards increase in difficulty, more support from the library will be required.  When students are younger, it’s important that they learn how to use a library so that they can focus on specific research tasks when ol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E’s Emphases: Text Complex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away from a focus on the “just right” book—students need to be supported as they reach for grade-level text (see Shanahan 2011; Glasswell &amp; Ford 2011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erest in finding well-written literary non-fiction (recommended author lists have been revised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t the high school level, a focus on literary criticis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E’s Emphases: Close Rea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Emphasis on diction and syntax analysis in literary non-fiction as well as literatur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alyzing rhetoric, author’s point of view / bias, source validity in informational tex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ttention to craft and structure as well as conten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E’s Emphases: Writing to a Sour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riting as a reading comprehension tool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Using textual evidence to argue and persuad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ummarizing/synthesizing multiple sourc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Can Librarians Help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p teachers identify informational text (especially excerpts) that align with current curricula and can be used to teach new standards (see handou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p teachers plan research experiences that are manageable in terms of time and resour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a central research skills curriculum for the district, identifying how each discipline contributes and in what sequ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an Librarians Teach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students how to manage a self-generated research question, especially one which needs to be refin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the selection and use of book reviews and literary critic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the evaluation of sources for validity, point of view / bias, and relev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 strategies to avoid plagiarism (note-taking, cita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much mor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0:55:14Z</dcterms:created>
  <dc:creator>lrinder</dc:creator>
  <dc:description/>
  <dc:language>en-US</dc:language>
  <cp:lastModifiedBy>lrinder</cp:lastModifiedBy>
  <dcterms:modified xsi:type="dcterms:W3CDTF">2012-01-11T01:34:09Z</dcterms:modified>
  <cp:revision>5</cp:revision>
  <dc:subject/>
  <dc:title>CCSS and Information Literacy</dc:title>
</cp:coreProperties>
</file>